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media/image10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D93F-9EE3-42E0-BB55-5B071A6F6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8C9-2CD2-40AE-B0D5-C16CE8CF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906-DA81-4FA0-82A1-B23AA122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4BD-AC0D-4942-9351-BBE0271D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E9B-DFF7-42BF-9F7C-B06803A6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A807-9FDD-487D-85C1-59D91299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5A3D-E400-4C36-8AFB-D519D05E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597-AD65-40C9-8F3B-C9C17AA5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05F8-10A1-4DF3-BB9C-4B46405A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751-E8C6-4F3A-97F9-5855E462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07A-B508-4FC4-BAB8-54D9F412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6A04-8FA3-4329-991A-9D672561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C62-B291-4BAA-872A-65A3EAFE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5D9C-A229-4BCF-AB28-9A7F198F5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17b3"/>
                </a:solidFill>
                <a:latin typeface="Arial"/>
              </a:rPr>
              <a:t>The application of ensemble Kalman filter in </a:t>
            </a:r>
            <a:r>
              <a:rPr b="0" lang="en-US" sz="3200" spc="-1" strike="noStrike">
                <a:solidFill>
                  <a:srgbClr val="b34442"/>
                </a:solidFill>
                <a:latin typeface="Arial"/>
              </a:rPr>
              <a:t>adaptive observation</a:t>
            </a:r>
            <a:r>
              <a:rPr b="0" lang="en-US" sz="3200" spc="-1" strike="noStrike">
                <a:solidFill>
                  <a:srgbClr val="0517b3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69b33d"/>
                </a:solidFill>
                <a:latin typeface="Arial"/>
              </a:rPr>
              <a:t>information content</a:t>
            </a:r>
            <a:r>
              <a:rPr b="0" lang="en-US" sz="3200" spc="-1" strike="noStrike">
                <a:solidFill>
                  <a:srgbClr val="0517b3"/>
                </a:solidFill>
                <a:latin typeface="Arial"/>
              </a:rPr>
              <a:t> estimation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jie Liu and Eugenia Kaln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3th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_uv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                                                                                   (winds are observed in both rawinsonde and dense network, 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0" b="115912"/>
          <a:stretch/>
        </p:blipFill>
        <p:spPr>
          <a:xfrm>
            <a:off x="1828800" y="1146240"/>
            <a:ext cx="5334120" cy="342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00400" y="4648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ense wind 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00400" y="5105520"/>
            <a:ext cx="2362320" cy="1024920"/>
            <a:chOff x="3200400" y="5105520"/>
            <a:chExt cx="2362320" cy="1024920"/>
          </a:xfrm>
        </p:grpSpPr>
        <p:sp>
          <p:nvSpPr>
            <p:cNvPr id="109" name=""/>
            <p:cNvSpPr/>
            <p:nvPr/>
          </p:nvSpPr>
          <p:spPr>
            <a:xfrm>
              <a:off x="3306960" y="5146560"/>
              <a:ext cx="21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06960" y="5410080"/>
              <a:ext cx="21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06960" y="6019560"/>
              <a:ext cx="21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06960" y="5715000"/>
              <a:ext cx="21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71920" y="5146560"/>
              <a:ext cx="0" cy="9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37240" y="5146560"/>
              <a:ext cx="0" cy="9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30640" y="5146560"/>
              <a:ext cx="0" cy="9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19720" y="5181480"/>
              <a:ext cx="0" cy="9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60920" y="5146560"/>
              <a:ext cx="0" cy="90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06960" y="5146560"/>
              <a:ext cx="0" cy="9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00400" y="5638680"/>
              <a:ext cx="152640" cy="15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26240" y="5146560"/>
              <a:ext cx="0" cy="90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91200" y="5146560"/>
              <a:ext cx="0" cy="90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56520" y="5146560"/>
              <a:ext cx="0" cy="90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0400" y="510552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33920" y="533376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43400" y="510552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76920" y="533376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34120" y="510552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43400" y="5638680"/>
              <a:ext cx="152640" cy="15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0440" y="5638680"/>
              <a:ext cx="152280" cy="15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6920" y="5943600"/>
              <a:ext cx="152280" cy="15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10240" y="5943600"/>
              <a:ext cx="152280" cy="151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0" r="452344" b="482806"/>
          <a:stretch/>
        </p:blipFill>
        <p:spPr>
          <a:xfrm>
            <a:off x="2743200" y="1447920"/>
            <a:ext cx="3686040" cy="3730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4920" y="763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ur: RMS error (zonal wind) difference between rawinsonde and exp_uv;                                              Shaded:  DFS of zonal wind in dense networ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5270400"/>
            <a:ext cx="8305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s have large impact over the region that does not have much rawinsonde,  especially over Southern Hemisphere and the Trop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FS reflects the wi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436434" t="0" r="0" b="482806"/>
          <a:stretch/>
        </p:blipFill>
        <p:spPr>
          <a:xfrm>
            <a:off x="2590920" y="914400"/>
            <a:ext cx="3763800" cy="3733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1440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mpact of winds delete-out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876920"/>
            <a:ext cx="8305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oth add-on (add winds in the ctrlA observation network) and delete-out (delete winds in the ctrlB observation network) experiments, the winds show the significant impact over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s have large impact over mid-latitude in SH in add-on experiment, but does not shown this impact in the delete-out experiment, which is due to the significant covariance between winds and mass field in thi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 applications to Carbon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bservation system desig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semble spread method; Using the posterior uncertainty est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valuate the significance of the carbon observ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ed on the sensitivity study (impact of the carbon concentration data on the flux esti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address the essential problem: uncertainty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Question to address in adaptive observation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aptive observa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rily adjust observation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mon ques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allocate the limited observation resources to maximize effectiveness of observations (improve the analysis and forecast as much as possible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uestion in han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t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 10% Doppler Wind Lidar (DWL) scanning range? (Future DWL will operate in adaptive targeting mode (NPOESS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cience team) (observation locations change with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17b3"/>
                </a:solidFill>
                <a:latin typeface="Arial"/>
              </a:rPr>
              <a:t>LETKF-based ensemble spread adaptive observation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e square root difference between ensemble members and ensemble mean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emble spread estimated from ensemble Kalman filter (EnKF) reflects the dynamical uncertainties related with background dynamic flow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nKF the ensemble spread strategy is very simple: we add the adaptive observations where the ensemble spread is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36920" y="174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5400000">
            <a:off x="2184840" y="-632880"/>
            <a:ext cx="4545000" cy="7696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winsonde observation locations and simulated satellite winds scanning r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462b"/>
                </a:solidFill>
                <a:latin typeface="Arial"/>
              </a:rPr>
              <a:t>00z and 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462b"/>
                </a:solidFill>
                <a:latin typeface="Arial"/>
              </a:rPr>
              <a:t>00z and 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06z and 18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06z and 18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867280"/>
            <a:ext cx="883908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orbit” allows simulated DWL observations potentially scanning each location twice a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rpos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% adaptive observations: 10% of half global grid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ampling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semble spread strategy (from Local Ensemble Transform Kalman Fil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observations are at locations with large ensemble wind spread at 500h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-Var and LETKF have </a:t>
            </a:r>
            <a:r>
              <a:rPr b="0" lang="en-US" sz="1800" spc="-1" strike="noStrike">
                <a:solidFill>
                  <a:srgbClr val="dd462b"/>
                </a:solidFill>
                <a:latin typeface="Arial"/>
              </a:rPr>
              <a:t>the same adap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d462b"/>
                </a:solidFill>
                <a:latin typeface="Arial"/>
              </a:rPr>
              <a:t>observation poi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andom pi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ly pick locations from potential loc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iform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ly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limatology ensemble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observations are at locations with large climatological average ensemble wind spread from rawinsonde assimilation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with time, and </a:t>
            </a:r>
            <a:r>
              <a:rPr b="0" lang="en-US" sz="1800" spc="-1" strike="noStrike">
                <a:solidFill>
                  <a:srgbClr val="dd462b"/>
                </a:solidFill>
                <a:latin typeface="Arial"/>
              </a:rPr>
              <a:t>same for 3D-Var and LETK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l” 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observations are at locations with large background error obtained from the “truth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066680"/>
            <a:ext cx="380880" cy="1752840"/>
          </a:xfrm>
          <a:custGeom>
            <a:avLst/>
            <a:gdLst>
              <a:gd name="textAreaLeft" fmla="*/ 243360 w 380880"/>
              <a:gd name="textAreaRight" fmla="*/ 381240 w 38088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505320"/>
            <a:ext cx="380880" cy="761760"/>
          </a:xfrm>
          <a:custGeom>
            <a:avLst/>
            <a:gdLst>
              <a:gd name="textAreaLeft" fmla="*/ 243360 w 380880"/>
              <a:gd name="textAreaRight" fmla="*/ 381240 w 3808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645120" y="1787760"/>
            <a:ext cx="21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d27b6"/>
                </a:solidFill>
                <a:latin typeface="Arial"/>
              </a:rPr>
              <a:t>Change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87840" y="36651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d27b6"/>
                </a:solidFill>
                <a:latin typeface="Arial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-173880" y="52520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d27b6"/>
                </a:solidFill>
                <a:latin typeface="Arial"/>
              </a:rPr>
              <a:t>Impossible in 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4156200" cy="3492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4151160" cy="34462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00hPa zonal wind RMS err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4400" y="4648320"/>
          <a:ext cx="3733560" cy="45720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  <a:gridCol w="488880"/>
                <a:gridCol w="544680"/>
                <a:gridCol w="544320"/>
                <a:gridCol w="544680"/>
                <a:gridCol w="5443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ad27b6"/>
                          </a:solidFill>
                          <a:latin typeface="Arial"/>
                        </a:rPr>
                        <a:t>2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72dd28"/>
                          </a:solidFill>
                          <a:latin typeface="Arial"/>
                          <a:ea typeface="宋体"/>
                        </a:rPr>
                        <a:t>0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517b3"/>
                          </a:solidFill>
                          <a:latin typeface="Arial"/>
                        </a:rPr>
                        <a:t>0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dd462b"/>
                          </a:solidFill>
                          <a:latin typeface="Arial"/>
                        </a:rPr>
                        <a:t>0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a47a1d"/>
                          </a:solidFill>
                          <a:latin typeface="Arial"/>
                        </a:rPr>
                        <a:t>0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efb75b"/>
                          </a:solidFill>
                          <a:latin typeface="Arial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133720" y="1066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-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066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K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724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1364"/>
                </a:solidFill>
                <a:latin typeface="Arial"/>
              </a:rPr>
              <a:t>RM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685800"/>
            <a:ext cx="822960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insonde; </a:t>
            </a:r>
            <a:r>
              <a:rPr b="0" lang="en-US" sz="1800" spc="-1" strike="noStrike">
                <a:solidFill>
                  <a:srgbClr val="ad27b6"/>
                </a:solidFill>
                <a:latin typeface="Arial"/>
              </a:rPr>
              <a:t>climat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2dd28"/>
                </a:solidFill>
                <a:latin typeface="Arial"/>
              </a:rPr>
              <a:t>uniform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517b3"/>
                </a:solidFill>
                <a:latin typeface="Arial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dd462b"/>
                </a:solidFill>
                <a:latin typeface="Arial"/>
              </a:rPr>
              <a:t>ensemble spread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a47a1d"/>
                </a:solidFill>
                <a:latin typeface="Arial"/>
              </a:rPr>
              <a:t>ideal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efb75b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5105520"/>
            <a:ext cx="883908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10% adaptive observations, the analysis accuracy is significantly improved for both 3D-Var and LETK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-Var is more sensitive to adaptive strategies than LETKF. Ensemble spread strategy gets best result among operational possible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800600" y="4648320"/>
          <a:ext cx="3733560" cy="45720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  <a:gridCol w="488880"/>
                <a:gridCol w="544680"/>
                <a:gridCol w="544320"/>
                <a:gridCol w="544680"/>
                <a:gridCol w="5443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ad27b6"/>
                          </a:solidFill>
                          <a:latin typeface="Arial"/>
                        </a:rPr>
                        <a:t>0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72dd28"/>
                          </a:solidFill>
                          <a:latin typeface="Arial"/>
                        </a:rPr>
                        <a:t>0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517b3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dd462b"/>
                          </a:solidFill>
                          <a:latin typeface="Arial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a47a1d"/>
                          </a:solidFill>
                          <a:latin typeface="Arial"/>
                        </a:rPr>
                        <a:t>0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efb75b"/>
                          </a:solidFill>
                          <a:latin typeface="Arial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71800" y="4648320"/>
            <a:ext cx="533520" cy="380880"/>
          </a:xfrm>
          <a:prstGeom prst="ellipse">
            <a:avLst/>
          </a:prstGeom>
          <a:noFill/>
          <a:ln w="38160">
            <a:solidFill>
              <a:srgbClr val="dd4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4648320"/>
            <a:ext cx="533160" cy="380880"/>
          </a:xfrm>
          <a:prstGeom prst="ellipse">
            <a:avLst/>
          </a:prstGeom>
          <a:noFill/>
          <a:ln w="38160">
            <a:solidFill>
              <a:srgbClr val="dd4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420920"/>
            <a:ext cx="4087800" cy="3456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228600"/>
            <a:ext cx="8458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hPa zonal wind RMS error (2% adaptive ob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1066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-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1066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K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029200"/>
            <a:ext cx="8305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fewer (2%) adaptive observations, ensemble spread sampling strategy outperforms the other methods in LETK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3D-Var, 2% adaptive observations are not enough to make significant improvement with any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16280" y="1390680"/>
            <a:ext cx="4146840" cy="3409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685800"/>
            <a:ext cx="822960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insonde; </a:t>
            </a:r>
            <a:r>
              <a:rPr b="0" lang="en-US" sz="1800" spc="-1" strike="noStrike">
                <a:solidFill>
                  <a:srgbClr val="ad27b6"/>
                </a:solidFill>
                <a:latin typeface="Arial"/>
              </a:rPr>
              <a:t>climat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2dd28"/>
                </a:solidFill>
                <a:latin typeface="Arial"/>
              </a:rPr>
              <a:t>uniform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517b3"/>
                </a:solidFill>
                <a:latin typeface="Arial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dd462b"/>
                </a:solidFill>
                <a:latin typeface="Arial"/>
              </a:rPr>
              <a:t>ensemble spread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a47a1d"/>
                </a:solidFill>
                <a:latin typeface="Arial"/>
              </a:rPr>
              <a:t>ideal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efb75b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alysis sensitivity study within LETK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121280" y="1897200"/>
          <a:ext cx="448920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1280" y="1897200"/>
                    <a:ext cx="44892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8600" y="3618000"/>
            <a:ext cx="8763120" cy="28598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also show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oss sensi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exploring the off diagonal ter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st in LETKF assimilation fra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flects the observation impact in the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the analysis sensitivity to different type of observations (rawinsonde, different type of satellite observations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114800" y="1219320"/>
          <a:ext cx="358128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219320"/>
                    <a:ext cx="35812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57200" y="1295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mea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057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alysis sensi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819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of Freedom of Signal (DFS): the trace of the matrix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trol experiment:</a:t>
            </a: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winsond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115912"/>
          <a:stretch/>
        </p:blipFill>
        <p:spPr>
          <a:xfrm>
            <a:off x="1828800" y="1298520"/>
            <a:ext cx="5334120" cy="3425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51055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dynamical variables (winds, temperature, specific humidity and surface pressure) are observed in the observation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0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5:42:48Z</dcterms:created>
  <dc:creator>Junjie Liu</dc:creator>
  <dc:description/>
  <cp:keywords/>
  <dc:language>en-US</dc:language>
  <cp:lastModifiedBy>SCD NCAR</cp:lastModifiedBy>
  <dcterms:modified xsi:type="dcterms:W3CDTF">2007-07-16T22:05:34Z</dcterms:modified>
  <cp:revision>16</cp:revision>
  <dc:subject/>
  <dc:title>PowerPoint Presentation  -  Ensemble</dc:title>
</cp:coreProperties>
</file>