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73E-C6AE-4172-8B84-6A391B6DC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E71-42DD-42CB-8530-9314349C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F1C-525B-4C21-996F-B258C49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996-4D63-40EA-91B6-DEA79DC5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B0F-58E4-43A0-AD6E-41161AF5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7FC-FCE2-47A8-A6D8-0FF7798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25E-C998-49D3-B8CB-EFC950EB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35D-9BE6-4406-B5BE-4C3B866D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995-D559-42DD-99DC-91D1579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C1C-529E-4C7F-943D-24B99343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387-266B-4C1A-A8B1-4262EE0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325-AC12-4BEF-8C5A-191C048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F9D-33FA-4FFE-A070-254952F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CF6-5B8D-43CD-A5C2-A394661E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The application of ensemble Kalman filter in </a:t>
            </a:r>
            <a:r>
              <a:rPr b="0" lang="en-US" sz="3200" spc="-1" strike="noStrike">
                <a:solidFill>
                  <a:srgbClr val="b34442"/>
                </a:solidFill>
                <a:latin typeface="Arial"/>
              </a:rPr>
              <a:t>adaptive observation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9b33d"/>
                </a:solidFill>
                <a:latin typeface="Arial"/>
              </a:rPr>
              <a:t>information content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estim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jie Liu and Eugenia Kal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3th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_uv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(winds are observed in both rawinsonde and dense network,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14624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040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nse wind 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400" y="5105520"/>
            <a:ext cx="2362320" cy="1024920"/>
            <a:chOff x="3200400" y="5105520"/>
            <a:chExt cx="2362320" cy="1024920"/>
          </a:xfrm>
        </p:grpSpPr>
        <p:sp>
          <p:nvSpPr>
            <p:cNvPr id="109" name=""/>
            <p:cNvSpPr/>
            <p:nvPr/>
          </p:nvSpPr>
          <p:spPr>
            <a:xfrm>
              <a:off x="3306960" y="5146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6960" y="541008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6960" y="6019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6960" y="571500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192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72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06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518148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09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696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624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65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3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105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440" y="563868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024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452344" b="482806"/>
          <a:stretch/>
        </p:blipFill>
        <p:spPr>
          <a:xfrm>
            <a:off x="2743200" y="1447920"/>
            <a:ext cx="3686040" cy="373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76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: RMS error (zonal wind) difference between rawinsonde and exp_uv;                                              Shaded:  DFS of zonal wind in dense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2704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the region that does not have much rawinsonde,  especially over Southern Hemisphere and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FS reflects the wi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36434" t="0" r="0" b="482806"/>
          <a:stretch/>
        </p:blipFill>
        <p:spPr>
          <a:xfrm>
            <a:off x="2590920" y="914400"/>
            <a:ext cx="376380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act of winds delete-out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876920"/>
            <a:ext cx="8305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oth add-on (add winds in the ctrlA observation network) and delete-out (delete winds in the ctrlB observation network) experiments, the winds show the significant impact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mid-latitude in SH in add-on experiment, but does not shown this impact in the delete-out experiment, which is due to the significant covariance between winds and mass field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applications to Carb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 system desig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emble spread method; Using the posterior uncertainty est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the significance of the carbon observ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the sensitivity study (impact of the carbon concentration data on the flux est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ddress the essential problem: uncertain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 to address in adaptive observation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ive observ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adjust observation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on ques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llocate the limited observation resources to maximize effectiveness of observations (improve the analysis and forecast as much as possibl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 in h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10% Doppler Wind Lidar (DWL) scanning range? (Future DWL will operate in adaptive targeting mode (NPOESS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cience team) (observation locations change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LETKF-based ensemble spread adaptive observ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square root difference between ensemble members and ensemble mea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pread estimated from ensemble Kalman filter (EnKF) reflects the dynamical uncertainties related with background dynamic flow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KF the ensemble spread strategy is very simple: we add the adaptive observations where the ensemble spread 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6920" y="17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5400000">
            <a:off x="2184840" y="-632880"/>
            <a:ext cx="4545000" cy="769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winsonde observation locations and simulated satellite winds scanning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88390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orbit” allows simulated DWL observations potentially scanning each location twice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% adaptive observations: 10% of half global grid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emble spread strategy (from Local Ensemble Transform Kalman Fi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ensemble wind spread at 500h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Var and LETKF have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the same adap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observation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ndom p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pick locations from potential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matology ensemble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climatological average ensemble wind spread from rawinsonde assimilation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with time, and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same for 3D-Var and LETK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l”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background error obtained from the “truth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380880" cy="1752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5053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645120" y="178776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7b6"/>
                </a:solidFill>
                <a:latin typeface="Arial"/>
              </a:rPr>
              <a:t>Chang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87840" y="366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73880" y="52520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Impossible in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15620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4151160" cy="3446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0hPa zonal wind RM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2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  <a:ea typeface="宋体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133720" y="1066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1364"/>
                </a:solidFill>
                <a:latin typeface="Arial"/>
              </a:rPr>
              <a:t>RM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8839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% adaptive observations, the analysis accuracy is significantly improved for both 3D-Var and LETK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-Var is more sensitive to adaptive strategies than LETKF. Ensemble spread strategy gets best result among operational 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006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71800" y="4648320"/>
            <a:ext cx="53352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648320"/>
            <a:ext cx="53316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4087800" cy="345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2860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hPa zonal wind RMS error (2% adaptive ob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0292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ewer (2%) adaptive observations, ensemble spread sampling strategy outperforms the other methods in LET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D-Var, 2% adaptive observations are not enough to make significant improvement with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16280" y="1390680"/>
            <a:ext cx="4146840" cy="340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alysis sensitivity study within LET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21280" y="1897200"/>
          <a:ext cx="44892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1897200"/>
                    <a:ext cx="4489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618000"/>
            <a:ext cx="8763120" cy="28598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show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 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the off diagonal te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st in LETKF assimil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s the observation impact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nalysis sensitivity to different type of observations (rawinsonde, different type of satellite observation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14800" y="1219320"/>
          <a:ext cx="35812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219320"/>
                    <a:ext cx="35812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295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mea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ysis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dom of Signal (DFS): the trace of th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rol experiment: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insond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29852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105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ynamical variables (winds, temperature, specific humidity and surface pressure) are observed in the observation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5:42:48Z</dcterms:created>
  <dc:creator>Junjie Liu</dc:creator>
  <dc:description/>
  <dc:language>en-US</dc:language>
  <cp:lastModifiedBy>Junjie Liu</cp:lastModifiedBy>
  <dcterms:modified xsi:type="dcterms:W3CDTF">2007-07-13T13:37:46Z</dcterms:modified>
  <cp:revision>15</cp:revision>
  <dc:subject/>
  <dc:title>Ensemble</dc:title>
</cp:coreProperties>
</file>