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F502-F447-4C02-88C2-A965B831C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16E-96C2-4769-AF05-E44875C8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7A4-BC40-4CF2-A4D8-03257F0A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0D8-69F5-4EBE-BCC6-FA706606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33B-C03B-40C1-8CA3-68B99D07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90E-B5B3-4909-B593-D2925A6A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6BC-67C9-4484-B212-E8A0E814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579-AAD4-41BC-9248-D421BD15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C28-F582-46FF-933A-1A1A91CB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7BA-71AF-4389-98F3-2B928355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FF3-2D8F-4525-86A7-76558011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1D6-DE92-4726-9A2C-653BBCA1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E44-7E98-4E25-9B37-37076B5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F423-3DE4-4115-87D0-092274AF9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The application of ensemble Kalman filter in </a:t>
            </a:r>
            <a:r>
              <a:rPr b="0" lang="en-US" sz="3200" spc="-1" strike="noStrike">
                <a:solidFill>
                  <a:srgbClr val="b34442"/>
                </a:solidFill>
                <a:latin typeface="Arial"/>
              </a:rPr>
              <a:t>adaptive observation</a:t>
            </a: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69b33d"/>
                </a:solidFill>
                <a:latin typeface="Arial"/>
              </a:rPr>
              <a:t>information content</a:t>
            </a: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 estimatio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jie Liu and Eugenia Kaln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3th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_uv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                           (winds are observed in both rawinsonde and dense network,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15912"/>
          <a:stretch/>
        </p:blipFill>
        <p:spPr>
          <a:xfrm>
            <a:off x="1828800" y="1146240"/>
            <a:ext cx="5334120" cy="342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0400" y="4648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ense wind 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00400" y="5105520"/>
            <a:ext cx="2362320" cy="1024920"/>
            <a:chOff x="3200400" y="5105520"/>
            <a:chExt cx="2362320" cy="1024920"/>
          </a:xfrm>
        </p:grpSpPr>
        <p:sp>
          <p:nvSpPr>
            <p:cNvPr id="109" name=""/>
            <p:cNvSpPr/>
            <p:nvPr/>
          </p:nvSpPr>
          <p:spPr>
            <a:xfrm>
              <a:off x="3306960" y="514656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06960" y="541008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06960" y="601956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6960" y="571500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7192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3724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3064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720" y="518148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092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0696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5638680"/>
              <a:ext cx="15264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2624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120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5652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510552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33920" y="533376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510552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76920" y="533376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51055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3400" y="5638680"/>
              <a:ext cx="15264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440" y="563868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594360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10240" y="594360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452344" b="482806"/>
          <a:stretch/>
        </p:blipFill>
        <p:spPr>
          <a:xfrm>
            <a:off x="2743200" y="1447920"/>
            <a:ext cx="3686040" cy="3730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76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ur: RMS error (zonal wind) difference between rawinsonde and exp_uv;                                              Shaded:  DFS of zonal wind in dense net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270400"/>
            <a:ext cx="8305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have large impact over the region that does not have much rawinsonde,  especially over Southern Hemisphere and the Trop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FS reflects the wi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36434" t="0" r="0" b="482806"/>
          <a:stretch/>
        </p:blipFill>
        <p:spPr>
          <a:xfrm>
            <a:off x="2590920" y="914400"/>
            <a:ext cx="376380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mpact of winds delete-out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876920"/>
            <a:ext cx="8305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oth add-on (add winds in the ctrlA observation network) and delete-out (delete winds in the ctrlB observation network) experiments, the winds show the significant impact over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have large impact over mid-latitude in SH in add-on experiment, but does not shown this impact in the delete-out experiment, which is due to the significant covariance between winds and mass field in thi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applications to Carb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 system desig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semble spread method; Using the posterior uncertainty est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e the significance of the carbon observ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the sensitivity study (impact of the carbon concentration data on the flux esti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ddress the essential problem: uncertain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uestion to address in adaptive observation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aptive observ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ily adjust observation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on ques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llocate the limited observation resources to maximize effectiveness of observations (improve the analysis and forecast as much as possibl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 in ha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10% Doppler Wind Lidar (DWL) scanning range? (Future DWL will operate in adaptive targeting mode (NPOESS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cience team) (observation locations change with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LETKF-based ensemble spread adaptive observ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square root difference between ensemble members and ensemble mean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spread estimated from ensemble Kalman filter (EnKF) reflects the dynamical uncertainties related with background dynamic flow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KF the ensemble spread strategy is very simple: we add the adaptive observations where the ensemble spread 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6920" y="174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5400000">
            <a:off x="2184840" y="-632880"/>
            <a:ext cx="4545000" cy="7696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winsonde observation locations and simulated satellite winds scanning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462b"/>
                </a:solidFill>
                <a:latin typeface="Arial"/>
              </a:rPr>
              <a:t>00z and 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462b"/>
                </a:solidFill>
                <a:latin typeface="Arial"/>
              </a:rPr>
              <a:t>00z and 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06z and 18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06z and 18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883908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orbit” allows simulated DWL observations potentially scanning each location twice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rpos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% adaptive observations: 10% of half global grid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ing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semble spread strategy (from Local Ensemble Transform Kalman Fil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ensemble wind spread at 500h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-Var and LETKF have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the same adap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observation 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ndom p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pick locations from potential lo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iform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ly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imatology ensemble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climatological average ensemble wind spread from rawinsonde assimilation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with time, and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same for 3D-Var and LETK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l”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background error obtained from the “truth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066680"/>
            <a:ext cx="380880" cy="1752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50532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645120" y="178776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7b6"/>
                </a:solidFill>
                <a:latin typeface="Arial"/>
              </a:rPr>
              <a:t>Chang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87840" y="3665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73880" y="52520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Impossible in 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156200" cy="34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4151160" cy="3446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0hPa zonal wind RMS err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4648320"/>
          <a:ext cx="3733560" cy="45720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488880"/>
                <a:gridCol w="544680"/>
                <a:gridCol w="544320"/>
                <a:gridCol w="544680"/>
                <a:gridCol w="544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d27b6"/>
                          </a:solidFill>
                          <a:latin typeface="Arial"/>
                        </a:rPr>
                        <a:t>2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72dd28"/>
                          </a:solidFill>
                          <a:latin typeface="Arial"/>
                          <a:ea typeface="宋体"/>
                        </a:rPr>
                        <a:t>0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517b3"/>
                          </a:solidFill>
                          <a:latin typeface="Arial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dd462b"/>
                          </a:solidFill>
                          <a:latin typeface="Arial"/>
                        </a:rPr>
                        <a:t>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47a1d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efb75b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133720" y="1066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-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724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1364"/>
                </a:solidFill>
                <a:latin typeface="Arial"/>
              </a:rPr>
              <a:t>RM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85800"/>
            <a:ext cx="82296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insonde; </a:t>
            </a: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lima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2dd28"/>
                </a:solidFill>
                <a:latin typeface="Arial"/>
              </a:rPr>
              <a:t>uniform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17b3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ensemble sprea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a47a1d"/>
                </a:solidFill>
                <a:latin typeface="Arial"/>
              </a:rPr>
              <a:t>ideal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efb75b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05520"/>
            <a:ext cx="8839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10% adaptive observations, the analysis accuracy is significantly improved for both 3D-Var and LETK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-Var is more sensitive to adaptive strategies than LETKF. Ensemble spread strategy gets best result among operational 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00600" y="4648320"/>
          <a:ext cx="3733560" cy="45720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488880"/>
                <a:gridCol w="544680"/>
                <a:gridCol w="544320"/>
                <a:gridCol w="544680"/>
                <a:gridCol w="544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d27b6"/>
                          </a:solidFill>
                          <a:latin typeface="Arial"/>
                        </a:rPr>
                        <a:t>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72dd28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517b3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dd462b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47a1d"/>
                          </a:solidFill>
                          <a:latin typeface="Arial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efb75b"/>
                          </a:solidFill>
                          <a:latin typeface="Arial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71800" y="4648320"/>
            <a:ext cx="533520" cy="380880"/>
          </a:xfrm>
          <a:prstGeom prst="ellipse">
            <a:avLst/>
          </a:prstGeom>
          <a:noFill/>
          <a:ln w="38160">
            <a:solidFill>
              <a:srgbClr val="dd4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4648320"/>
            <a:ext cx="533160" cy="380880"/>
          </a:xfrm>
          <a:prstGeom prst="ellipse">
            <a:avLst/>
          </a:prstGeom>
          <a:noFill/>
          <a:ln w="38160">
            <a:solidFill>
              <a:srgbClr val="dd4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4087800" cy="3456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22860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hPa zonal wind RMS error (2% adaptive ob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-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029200"/>
            <a:ext cx="8305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ewer (2%) adaptive observations, ensemble spread sampling strategy outperforms the other methods in LET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3D-Var, 2% adaptive observations are not enough to make significant improvement with any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16280" y="1390680"/>
            <a:ext cx="4146840" cy="340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685800"/>
            <a:ext cx="82296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insonde; </a:t>
            </a: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lima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2dd28"/>
                </a:solidFill>
                <a:latin typeface="Arial"/>
              </a:rPr>
              <a:t>uniform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17b3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ensemble sprea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a47a1d"/>
                </a:solidFill>
                <a:latin typeface="Arial"/>
              </a:rPr>
              <a:t>ideal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efb75b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alysis sensitivity study within LETK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121280" y="1897200"/>
          <a:ext cx="44892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1280" y="1897200"/>
                    <a:ext cx="4489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618000"/>
            <a:ext cx="8763120" cy="28598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show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oss sensi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xploring the off diagonal te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st in LETKF assimilation fra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lects the observation impact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e analysis sensitivity to different type of observations (rawinsonde, different type of satellite observation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14800" y="1219320"/>
          <a:ext cx="35812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219320"/>
                    <a:ext cx="35812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57200" y="1295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mea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alysis sensi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81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Freedom of Signal (DFS): the trace of the matrix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trol experiment: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insond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15912"/>
          <a:stretch/>
        </p:blipFill>
        <p:spPr>
          <a:xfrm>
            <a:off x="1828800" y="1298520"/>
            <a:ext cx="5334120" cy="3425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1055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dynamical variables (winds, temperature, specific humidity and surface pressure) are observed in the observation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5:42:48Z</dcterms:created>
  <dc:creator>Junjie Liu</dc:creator>
  <dc:description/>
  <cp:keywords/>
  <dc:language>en-US</dc:language>
  <cp:lastModifiedBy>SCD NCAR</cp:lastModifiedBy>
  <dcterms:modified xsi:type="dcterms:W3CDTF">2007-07-16T22:05:34Z</dcterms:modified>
  <cp:revision>16</cp:revision>
  <dc:subject/>
  <dc:title>PowerPoint Presentation  -  Ensemble</dc:title>
</cp:coreProperties>
</file>