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128-C776-47E7-B060-AC5F923707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F8C-2CB8-4726-9240-CA4CCE623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0" name="Picture 6" descr="Crest_monogram_colour.tiff"/>
          <p:cNvPicPr/>
          <p:nvPr/>
        </p:nvPicPr>
        <p:blipFill>
          <a:blip r:embed="rId2"/>
          <a:stretch/>
        </p:blipFill>
        <p:spPr>
          <a:xfrm>
            <a:off x="5846760" y="338040"/>
            <a:ext cx="3071880" cy="804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NSW_points.emf"/>
          <p:cNvPicPr/>
          <p:nvPr/>
        </p:nvPicPr>
        <p:blipFill>
          <a:blip r:embed="rId1"/>
          <a:stretch/>
        </p:blipFill>
        <p:spPr>
          <a:xfrm>
            <a:off x="4694400" y="1879560"/>
            <a:ext cx="3816360" cy="381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Aust_map.emf"/>
          <p:cNvPicPr/>
          <p:nvPr/>
        </p:nvPicPr>
        <p:blipFill>
          <a:blip r:embed="rId2"/>
          <a:srcRect l="10344" t="20053" r="11537" b="11177"/>
          <a:stretch/>
        </p:blipFill>
        <p:spPr>
          <a:xfrm>
            <a:off x="1071720" y="2717640"/>
            <a:ext cx="2554200" cy="224820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7"/>
          <p:cNvSpPr/>
          <p:nvPr/>
        </p:nvSpPr>
        <p:spPr>
          <a:xfrm>
            <a:off x="3722760" y="3762360"/>
            <a:ext cx="849240" cy="3524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 flipV="1">
            <a:off x="3447720" y="3565080"/>
            <a:ext cx="1307160" cy="6278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analysis of station rain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n Plate 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rnes grid (B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NSW_grid.emf"/>
          <p:cNvPicPr/>
          <p:nvPr/>
        </p:nvPicPr>
        <p:blipFill>
          <a:blip r:embed="rId1"/>
          <a:stretch/>
        </p:blipFill>
        <p:spPr>
          <a:xfrm>
            <a:off x="4908600" y="1963800"/>
            <a:ext cx="3816360" cy="38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9:24:20Z</dcterms:created>
  <dc:creator>Richard Stuetz</dc:creator>
  <dc:description/>
  <dc:language>en-US</dc:language>
  <cp:lastModifiedBy> </cp:lastModifiedBy>
  <cp:lastPrinted>2002-07-04T18:01:23Z</cp:lastPrinted>
  <dcterms:modified xsi:type="dcterms:W3CDTF">2008-08-13T16:56:09Z</dcterms:modified>
  <cp:revision>180</cp:revision>
  <dc:subject>UNSW logo</dc:subject>
  <dc:title>CWWT slide template</dc:title>
</cp:coreProperties>
</file>