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0439-0812-4CF6-9823-086E8590BF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BFF-D706-4B32-9274-C7994A321D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88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60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88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2440" y="253800"/>
            <a:ext cx="77724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824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5880" y="139680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0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8824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5880" y="3731760"/>
            <a:ext cx="25023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253800"/>
            <a:ext cx="777240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2920" y="373176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024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920" y="1396800"/>
            <a:ext cx="3792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0240" y="373176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65240" y="620856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SW Water Research Cent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165240" y="6208560"/>
            <a:ext cx="53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NSW Water Research Cent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0" name="Picture 6" descr="Crest_monogram_colour.tiff"/>
          <p:cNvPicPr/>
          <p:nvPr/>
        </p:nvPicPr>
        <p:blipFill>
          <a:blip r:embed="rId2"/>
          <a:stretch/>
        </p:blipFill>
        <p:spPr>
          <a:xfrm>
            <a:off x="5846760" y="338040"/>
            <a:ext cx="3071880" cy="804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2440" y="25380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60240" y="1396800"/>
            <a:ext cx="77724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NSW_points.emf"/>
          <p:cNvPicPr/>
          <p:nvPr/>
        </p:nvPicPr>
        <p:blipFill>
          <a:blip r:embed="rId1"/>
          <a:stretch/>
        </p:blipFill>
        <p:spPr>
          <a:xfrm>
            <a:off x="4694400" y="1879560"/>
            <a:ext cx="3816360" cy="381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Aust_map.emf"/>
          <p:cNvPicPr/>
          <p:nvPr/>
        </p:nvPicPr>
        <p:blipFill>
          <a:blip r:embed="rId2"/>
          <a:srcRect l="10344" t="20053" r="11537" b="11177"/>
          <a:stretch/>
        </p:blipFill>
        <p:spPr>
          <a:xfrm>
            <a:off x="1071720" y="2717640"/>
            <a:ext cx="2554200" cy="224820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7"/>
          <p:cNvSpPr/>
          <p:nvPr/>
        </p:nvSpPr>
        <p:spPr>
          <a:xfrm>
            <a:off x="3722760" y="3762360"/>
            <a:ext cx="849240" cy="35244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1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cxnSp>
        <p:nvCxnSpPr>
          <p:cNvPr id="89" name="Straight Arrow Connector 9"/>
          <p:cNvCxnSpPr/>
          <p:nvPr/>
        </p:nvCxnSpPr>
        <p:spPr>
          <a:xfrm flipV="1">
            <a:off x="3447720" y="3565080"/>
            <a:ext cx="1307160" cy="6278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analysis of station rain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n Plate 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rnes grid (B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NSW_grid.emf"/>
          <p:cNvPicPr/>
          <p:nvPr/>
        </p:nvPicPr>
        <p:blipFill>
          <a:blip r:embed="rId1"/>
          <a:stretch/>
        </p:blipFill>
        <p:spPr>
          <a:xfrm>
            <a:off x="4908600" y="1963800"/>
            <a:ext cx="3816360" cy="38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9:24:20Z</dcterms:created>
  <dc:creator>Richard Stuetz</dc:creator>
  <dc:description/>
  <dc:language>en-US</dc:language>
  <cp:lastModifiedBy> </cp:lastModifiedBy>
  <cp:lastPrinted>2002-07-04T18:01:23Z</cp:lastPrinted>
  <dcterms:modified xsi:type="dcterms:W3CDTF">2008-08-13T16:56:09Z</dcterms:modified>
  <cp:revision>180</cp:revision>
  <dc:subject>UNSW logo</dc:subject>
  <dc:title>CWWT slide template</dc:title>
</cp:coreProperties>
</file>