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10000"/>
              </a:lnSpc>
              <a:spcBef>
                <a:spcPts val="21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84240" y="733320"/>
            <a:ext cx="488952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69B70-F65D-4C2A-9E5C-027619ACDDC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C2E66-57A9-4ACD-B3DF-CA719C6A036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22440" y="253800"/>
            <a:ext cx="77724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0240" y="1396800"/>
            <a:ext cx="777240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60240" y="3731760"/>
            <a:ext cx="777240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2440" y="253800"/>
            <a:ext cx="77724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0240" y="1396800"/>
            <a:ext cx="379260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2920" y="1396800"/>
            <a:ext cx="379260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0240" y="3731760"/>
            <a:ext cx="379260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42920" y="3731760"/>
            <a:ext cx="379260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22440" y="253800"/>
            <a:ext cx="77724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0240" y="1396800"/>
            <a:ext cx="250236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88240" y="1396800"/>
            <a:ext cx="250236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15880" y="1396800"/>
            <a:ext cx="250236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60240" y="3731760"/>
            <a:ext cx="250236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88240" y="3731760"/>
            <a:ext cx="250236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15880" y="3731760"/>
            <a:ext cx="250236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2440" y="253800"/>
            <a:ext cx="77724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60240" y="1396800"/>
            <a:ext cx="777240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2440" y="253800"/>
            <a:ext cx="77724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60240" y="1396800"/>
            <a:ext cx="7772400" cy="44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2440" y="253800"/>
            <a:ext cx="77724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60240" y="1396800"/>
            <a:ext cx="3792600" cy="44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2920" y="1396800"/>
            <a:ext cx="3792600" cy="44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2440" y="253800"/>
            <a:ext cx="77724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2440" y="253800"/>
            <a:ext cx="7772400" cy="46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2440" y="253800"/>
            <a:ext cx="77724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60240" y="1396800"/>
            <a:ext cx="379260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2920" y="1396800"/>
            <a:ext cx="3792600" cy="44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60240" y="3731760"/>
            <a:ext cx="379260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22440" y="253800"/>
            <a:ext cx="77724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60240" y="1396800"/>
            <a:ext cx="777240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2440" y="253800"/>
            <a:ext cx="77724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60240" y="1396800"/>
            <a:ext cx="3792600" cy="44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2920" y="1396800"/>
            <a:ext cx="379260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42920" y="3731760"/>
            <a:ext cx="379260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2440" y="253800"/>
            <a:ext cx="77724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60240" y="1396800"/>
            <a:ext cx="379260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2920" y="1396800"/>
            <a:ext cx="379260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60240" y="3731760"/>
            <a:ext cx="777240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2440" y="253800"/>
            <a:ext cx="77724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60240" y="1396800"/>
            <a:ext cx="777240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0240" y="3731760"/>
            <a:ext cx="777240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2440" y="253800"/>
            <a:ext cx="77724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60240" y="1396800"/>
            <a:ext cx="379260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2920" y="1396800"/>
            <a:ext cx="379260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60240" y="3731760"/>
            <a:ext cx="379260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42920" y="3731760"/>
            <a:ext cx="379260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2440" y="253800"/>
            <a:ext cx="77724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60240" y="1396800"/>
            <a:ext cx="250236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88240" y="1396800"/>
            <a:ext cx="250236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15880" y="1396800"/>
            <a:ext cx="250236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60240" y="3731760"/>
            <a:ext cx="250236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88240" y="3731760"/>
            <a:ext cx="250236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15880" y="3731760"/>
            <a:ext cx="250236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2440" y="253800"/>
            <a:ext cx="77724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60240" y="1396800"/>
            <a:ext cx="7772400" cy="44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2440" y="253800"/>
            <a:ext cx="77724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60240" y="1396800"/>
            <a:ext cx="3792600" cy="44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42920" y="1396800"/>
            <a:ext cx="3792600" cy="44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2440" y="253800"/>
            <a:ext cx="77724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22440" y="253800"/>
            <a:ext cx="7772400" cy="46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2440" y="253800"/>
            <a:ext cx="77724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0240" y="1396800"/>
            <a:ext cx="379260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2920" y="1396800"/>
            <a:ext cx="3792600" cy="44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60240" y="3731760"/>
            <a:ext cx="379260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22440" y="253800"/>
            <a:ext cx="77724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60240" y="1396800"/>
            <a:ext cx="3792600" cy="44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2920" y="1396800"/>
            <a:ext cx="379260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42920" y="3731760"/>
            <a:ext cx="379260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22440" y="253800"/>
            <a:ext cx="77724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60240" y="1396800"/>
            <a:ext cx="379260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2920" y="1396800"/>
            <a:ext cx="379260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60240" y="3731760"/>
            <a:ext cx="777240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2440" y="253800"/>
            <a:ext cx="77724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0240" y="1396800"/>
            <a:ext cx="7772400" cy="44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165240" y="6208560"/>
            <a:ext cx="537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UNSW Water Research Centre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5"/>
          <p:cNvSpPr/>
          <p:nvPr/>
        </p:nvSpPr>
        <p:spPr>
          <a:xfrm>
            <a:off x="165240" y="6208560"/>
            <a:ext cx="537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UNSW Water Research Centre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40" name="Picture 6" descr="Crest_monogram_colour.tiff"/>
          <p:cNvPicPr/>
          <p:nvPr/>
        </p:nvPicPr>
        <p:blipFill>
          <a:blip r:embed="rId2"/>
          <a:stretch/>
        </p:blipFill>
        <p:spPr>
          <a:xfrm>
            <a:off x="5846760" y="338040"/>
            <a:ext cx="3071880" cy="80496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2440" y="253800"/>
            <a:ext cx="77724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60240" y="1396800"/>
            <a:ext cx="7772400" cy="44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NSW_points.emf"/>
          <p:cNvPicPr/>
          <p:nvPr/>
        </p:nvPicPr>
        <p:blipFill>
          <a:blip r:embed="rId1"/>
          <a:stretch/>
        </p:blipFill>
        <p:spPr>
          <a:xfrm>
            <a:off x="4694400" y="1879560"/>
            <a:ext cx="3816360" cy="3814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Aust_map.emf"/>
          <p:cNvPicPr/>
          <p:nvPr/>
        </p:nvPicPr>
        <p:blipFill>
          <a:blip r:embed="rId2"/>
          <a:srcRect l="10344" t="20053" r="11537" b="11177"/>
          <a:stretch/>
        </p:blipFill>
        <p:spPr>
          <a:xfrm>
            <a:off x="1071720" y="2717640"/>
            <a:ext cx="2554200" cy="2248200"/>
          </a:xfrm>
          <a:prstGeom prst="rect">
            <a:avLst/>
          </a:prstGeom>
          <a:ln w="0">
            <a:noFill/>
          </a:ln>
        </p:spPr>
      </p:pic>
      <p:sp>
        <p:nvSpPr>
          <p:cNvPr id="88" name="Down Arrow 7"/>
          <p:cNvSpPr/>
          <p:nvPr/>
        </p:nvSpPr>
        <p:spPr>
          <a:xfrm>
            <a:off x="3722760" y="3762360"/>
            <a:ext cx="849240" cy="352440"/>
          </a:xfrm>
          <a:prstGeom prst="downArrow">
            <a:avLst>
              <a:gd name="adj1" fmla="val 50000"/>
              <a:gd name="adj2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21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cxnSp>
        <p:nvCxnSpPr>
          <p:cNvPr id="89" name="Straight Arrow Connector 9"/>
          <p:cNvCxnSpPr/>
          <p:nvPr/>
        </p:nvCxnSpPr>
        <p:spPr>
          <a:xfrm flipV="1">
            <a:off x="3447720" y="3565080"/>
            <a:ext cx="1307160" cy="627840"/>
          </a:xfrm>
          <a:prstGeom prst="straightConnector1">
            <a:avLst/>
          </a:prstGeom>
          <a:ln w="22320">
            <a:solidFill>
              <a:srgbClr val="ff0000"/>
            </a:solidFill>
            <a:miter/>
            <a:tailEnd len="med" type="arrow" w="med"/>
          </a:ln>
        </p:spPr>
      </p:cxn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atial analysis of station rainfa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Kri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in Plate Sp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v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Barnes grid (B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1" descr="NSW_grid.emf"/>
          <p:cNvPicPr/>
          <p:nvPr/>
        </p:nvPicPr>
        <p:blipFill>
          <a:blip r:embed="rId1"/>
          <a:stretch/>
        </p:blipFill>
        <p:spPr>
          <a:xfrm>
            <a:off x="4908600" y="1963800"/>
            <a:ext cx="3816360" cy="3814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2T19:24:20Z</dcterms:created>
  <dc:creator>Richard Stuetz</dc:creator>
  <dc:description/>
  <dc:language>en-US</dc:language>
  <cp:lastModifiedBy> </cp:lastModifiedBy>
  <cp:lastPrinted>2002-07-04T18:01:23Z</cp:lastPrinted>
  <dcterms:modified xsi:type="dcterms:W3CDTF">2008-08-13T16:56:09Z</dcterms:modified>
  <cp:revision>180</cp:revision>
  <dc:subject>UNSW logo</dc:subject>
  <dc:title>CWWT slide template</dc:title>
</cp:coreProperties>
</file>